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59F-1D61-42B7-90BA-5C6E2E21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3EF-D2B9-499D-A338-97FF80E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19B-BD34-49BA-A516-6082F87B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8C2-D6B9-431F-AEFA-7801B1A8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187-5673-468B-893C-59F24122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662-CDE5-4502-B825-3DD38CC3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28A-B74E-423D-A1FB-0B0C294C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4A4-70AF-4DBA-987F-988BF68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34F-7E12-42C9-8813-3B305649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0F0-17C2-4A91-959E-97453AD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F11-F289-4028-AF4F-7A592566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EA1-A89B-4CF8-BF69-C5BDB5E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581-F140-41A7-A40E-560279BC6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57120" y="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8240" y="357120"/>
            <a:ext cx="7589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storm</cp:lastModifiedBy>
  <dcterms:modified xsi:type="dcterms:W3CDTF">2010-01-19T13:14:01Z</dcterms:modified>
  <cp:revision>74</cp:revision>
  <dc:subject/>
  <dc:title>Слайд 1</dc:title>
</cp:coreProperties>
</file>